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75D-C951-46ED-AA3D-309F359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E8E-9B5E-423C-A80B-C4E0471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07F-FB19-43DE-BF72-EF80BAD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4D6-546C-4654-9B18-91C79F90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6111-B1A7-4D09-9D59-76759085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ED15-D4E0-4AF9-B98A-93C332C1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6D2-FDDA-404F-BFA4-01989F01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7F1-B765-422F-AC67-DC715374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170E-88C8-48FA-BDD6-5CD8A133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DE63-3209-4390-B99A-2E2ECA0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A3E-FC49-4182-956E-33F264E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904-1B68-4E26-9098-4CA2532F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71B1-7723-492B-A512-4BC8A47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A8F-AD6C-431B-BF30-C58E2F5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899-3B91-4C71-A05B-58FB5B75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334-A568-4EC2-8C87-8AD32DBB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BE5B-7970-4BDC-8358-DCC81BEA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893-0FFC-4395-8103-EBD24253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86C-2DE5-4846-9095-8296905A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806-5DC1-44FD-B0D0-370B33C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58F-4CB4-4603-B432-7EC2500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861-58FE-42DE-B213-0F9490D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2D6-C551-40E2-A47B-70DD038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DE8-270C-4990-B97A-7B7B541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D22-3987-43D6-83E1-D3CDECD0BD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45F6-6A22-4D67-B3FC-84FD31FE2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056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ON TOMBAK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N FERDYNAN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RODZONY 7 KWIETNIA 1895 W WARSZAWIE ZAMORDOWANY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ZAŁEM W TYŁ GŁOWY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 TWERZ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ZEZ NKWD W 1940 ROK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u pamięci ofiar zbrodni katyńskiej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07640" y="6597720"/>
            <a:ext cx="36360" cy="3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5634000"/>
            <a:ext cx="266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kshumac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48440" y="1828800"/>
            <a:ext cx="2874960" cy="194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61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Notka Szelep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33640" y="1828800"/>
            <a:ext cx="2798640" cy="4038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3440" y="1828800"/>
            <a:ext cx="1346040" cy="194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3440" y="3924360"/>
            <a:ext cx="1346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ejsca pamię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808360" cy="165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95480" y="3924360"/>
            <a:ext cx="2874960" cy="1942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3024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ejsca pamię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2808360" cy="280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024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iary zbrodni katyńskiej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LEON TOMB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Zdzisław Baczy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ózef Baran-Bile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Leon Billewi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ieczysław Birnba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Bronisław Bohaterewi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Zbigniew Bło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zimierz Cybul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zimierz Zygmunt Czarnec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sawery Czernic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Tytus Dołęga-Zakrze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Dziurzy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Dziurzy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ózef Gigiel-Melechowi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Cyprian Głowi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Haller de Hall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rol Hauke-Bos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rol Hodał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zimierz Iwic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Lucjan Janisze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Zdzisław Kawec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Kirch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Korcz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leksander Kowalewski (genera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Kowalski (łyżwiar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Krawczy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Krud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efan Krud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Kuc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rol Kurek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Henryk Julian Levitto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erzy Lewak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ina Lewandow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usz Libic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dam Macią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Władysław Michal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Henryk Minkiewi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Leon Moszcze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Zygmunt Młot-Przepałk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Nel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eofil 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dam Obruba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Olejnicz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Walerian Orł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Roman Ostasze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Par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Ryszard Pasz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Lech Piwow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Wacław Plewa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onstanty Plis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Franciszek Polnias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Prau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ieczysław Pro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arian Rentgen-Gün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ndrzej Rut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Franciszek Sikor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Leonard Skier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Piotr Skuratowi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ieczysław Smorawiń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arian Spo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lbin Stanisła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ntoni Stefan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Baruch Stei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Franciszek Szu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Franciszek Umiast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Urban (wioślar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kub Waj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Władysław Wawrzyni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Zygfryd We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Alojzy Wir-K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rol Wojciech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Tadeusz Wędr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Jan Zału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tanisław Zwojszczy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Szczepan Łucz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Kazimierz Orlik-Łuko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 Marceli Żółtow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5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3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3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13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3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13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3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13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138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13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138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5000" fill="hold"/>
                                        <p:tgtEl>
                                          <p:spTgt spid="13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138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5000" fill="hold"/>
                                        <p:tgtEl>
                                          <p:spTgt spid="13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138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13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000" fill="hold"/>
                                        <p:tgtEl>
                                          <p:spTgt spid="138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13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138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3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138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13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38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5000" fill="hold"/>
                                        <p:tgtEl>
                                          <p:spTgt spid="13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138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3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38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13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00" fill="hold"/>
                                        <p:tgtEl>
                                          <p:spTgt spid="138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13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13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3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38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13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13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13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138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5000" fill="hold"/>
                                        <p:tgtEl>
                                          <p:spTgt spid="13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0" fill="hold"/>
                                        <p:tgtEl>
                                          <p:spTgt spid="138">
                                            <p:txEl>
                                              <p:pRg st="43" end="4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5000" fill="hold"/>
                                        <p:tgtEl>
                                          <p:spTgt spid="13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00" fill="hold"/>
                                        <p:tgtEl>
                                          <p:spTgt spid="138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138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138">
                                            <p:txEl>
                                              <p:pRg st="45" end="4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138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138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5000" fill="hold"/>
                                        <p:tgtEl>
                                          <p:spTgt spid="138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0" fill="hold"/>
                                        <p:tgtEl>
                                          <p:spTgt spid="138">
                                            <p:txEl>
                                              <p:pRg st="47" end="4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138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138">
                                            <p:txEl>
                                              <p:pRg st="48" end="4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138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138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5000" fill="hold"/>
                                        <p:tgtEl>
                                          <p:spTgt spid="138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000" fill="hold"/>
                                        <p:tgtEl>
                                          <p:spTgt spid="138">
                                            <p:txEl>
                                              <p:pRg st="50" end="5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5000" fill="hold"/>
                                        <p:tgtEl>
                                          <p:spTgt spid="138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000" fill="hold"/>
                                        <p:tgtEl>
                                          <p:spTgt spid="138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38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138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138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138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38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138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138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138">
                                            <p:txEl>
                                              <p:pRg st="55" end="5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138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138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138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138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138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138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38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138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38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138">
                                            <p:txEl>
                                              <p:pRg st="60" end="6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38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0" fill="hold"/>
                                        <p:tgtEl>
                                          <p:spTgt spid="138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38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138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138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138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138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138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38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138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6" end="6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38">
                                            <p:txEl>
                                              <p:pRg st="66" end="6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138">
                                            <p:txEl>
                                              <p:pRg st="66" end="6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138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138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8" end="6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38">
                                            <p:txEl>
                                              <p:pRg st="68" end="6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00" fill="hold"/>
                                        <p:tgtEl>
                                          <p:spTgt spid="138">
                                            <p:txEl>
                                              <p:pRg st="68" end="6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9" end="6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5000" fill="hold"/>
                                        <p:tgtEl>
                                          <p:spTgt spid="138">
                                            <p:txEl>
                                              <p:pRg st="69" end="6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0" fill="hold"/>
                                        <p:tgtEl>
                                          <p:spTgt spid="138">
                                            <p:txEl>
                                              <p:pRg st="69" end="6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0" end="7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5000" fill="hold"/>
                                        <p:tgtEl>
                                          <p:spTgt spid="138">
                                            <p:txEl>
                                              <p:pRg st="70" end="7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00" fill="hold"/>
                                        <p:tgtEl>
                                          <p:spTgt spid="138">
                                            <p:txEl>
                                              <p:pRg st="70" end="7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1" end="7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0" fill="hold"/>
                                        <p:tgtEl>
                                          <p:spTgt spid="138">
                                            <p:txEl>
                                              <p:pRg st="71" end="7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0" fill="hold"/>
                                        <p:tgtEl>
                                          <p:spTgt spid="138">
                                            <p:txEl>
                                              <p:pRg st="71" end="7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2" end="7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5000" fill="hold"/>
                                        <p:tgtEl>
                                          <p:spTgt spid="138">
                                            <p:txEl>
                                              <p:pRg st="72" end="7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0" fill="hold"/>
                                        <p:tgtEl>
                                          <p:spTgt spid="138">
                                            <p:txEl>
                                              <p:pRg st="72" end="7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3" end="7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5000" fill="hold"/>
                                        <p:tgtEl>
                                          <p:spTgt spid="138">
                                            <p:txEl>
                                              <p:pRg st="73" end="7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00" fill="hold"/>
                                        <p:tgtEl>
                                          <p:spTgt spid="138">
                                            <p:txEl>
                                              <p:pRg st="73" end="7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4" end="7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138">
                                            <p:txEl>
                                              <p:pRg st="74" end="7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00" fill="hold"/>
                                        <p:tgtEl>
                                          <p:spTgt spid="138">
                                            <p:txEl>
                                              <p:pRg st="74" end="7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5" end="7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138">
                                            <p:txEl>
                                              <p:pRg st="75" end="7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0" fill="hold"/>
                                        <p:tgtEl>
                                          <p:spTgt spid="138">
                                            <p:txEl>
                                              <p:pRg st="75" end="7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6" end="7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138">
                                            <p:txEl>
                                              <p:pRg st="76" end="7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5000" fill="hold"/>
                                        <p:tgtEl>
                                          <p:spTgt spid="138">
                                            <p:txEl>
                                              <p:pRg st="76" end="7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rzy pra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ffffff"/>
                </a:solidFill>
                <a:latin typeface="Arial"/>
              </a:rPr>
              <a:t>Dominik Kowalski-autor prezentacj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ffffff"/>
                </a:solidFill>
                <a:latin typeface="Arial"/>
              </a:rPr>
              <a:t>Hubert Kłoda-obsługa sprzęt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ffffff"/>
                </a:solidFill>
                <a:latin typeface="Arial"/>
              </a:rPr>
              <a:t>Ewelina Zemlik i Eliza Łaskiewicz-omówienie prezentacj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 to jest KATYŃ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brodnia katyńska, w Polsce określenie równoznaczne ze słowem Katyń i las katyński – wymordowanie na mocy decyzji Biura Politycznego KC WKP z 5 marca 1940 r. przez NKWD na wiosnę tego roku przetrzymywanych w obozach na terytorium ZSRR prawie 19 tys. jeńców wojennych – polskich oficerów – w tym pochodzących z rezerw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ług szacunków historyków stanowiło to połowę korpusu oficerów Wojska Polskiego, stanowiącą jak to określił dr Andrzej Kunert elitę narodu i kwiat kultury polskie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1683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IA + STAL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5 marca 1940 r. Ławrientij Beria – Ludowy Komisarz Spraw Wewnętrznych ZSRR skierował do Józefa Stalina notatkę nr 794/B (794/Б), w której po zdefiniowaniu, że polscy jeńcy wojenni (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4 736 osób – w tym 97 proc. Polaków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 oraz więźniowie w więzieniach Zachodniej Białorusi i Ukrainy (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8 632 osób, z tego 1207 oficerów – w tym ogółem 57 proc. Polaków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 stanowią "zdeklarowanych i nie rokujących nadziei poprawy wrogów władzy radzieckiej", stwierdził, że NKWD ZSRR uważa za uzasadni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strzelanie 14,7 tys. jeńców i 11 tys. więźniów, bez wzywania skazanych, bez przedstawiania zarzutów, bez decyzji o zakończeniu śledztwa i aktu oskarż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lecenie i rozpatrzenie spraw i podejmowanie decyzji trójce w składzie: Wsiewołod Mierkułow (wpisany odręcznie prawdopodobnie przez Stalina powyżej skreślonego nazwiska Berii), Bogdan Kobułow, Leonid Basztako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2524320" cy="3210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664000" cy="309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ózef Sta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476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549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Ławrientij B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IS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 wykonaniu objętych tajemnicą państwową masowych zabójstw dla rodzin zamordowanych nastąpiła cisza – przestała nadchodzić korespondencja, wysyłana do nich wracała, próby uzyskania informacji o ich losach i miejscu pobytu były pozostawiane bez odpowiedzi. Jednocześnie zaczęły krążyć słuchy i pogłoski, częściowo związane z faktami – m.in. o zesłaniu jeńców do obozów na północy Rosji, na Ziemię Franciszka Józefa i Nową Ziemię i ich późniejszym potopieniu w Morzu Białym lub Oceanie Arktyczny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tym czasie ze strony kilku wysokich i najwyższych funkcjonariuszy radzieckich zaistniały wypowiedzi o losach zatrzymanych polskich oficerów, ale nigdy w tym okresie nie odnoszące się do jedynej wkrótce tezy o udziale Niemców w śmierci zaginionych. Również po zmianie stosunków polsko-radzieckich w związku z wybuchem wojny Niemiec z ZSRR i podjęciu poszukiwań przez rząd polski władze radzieckie nie udzieliły żadnych wyjaśnie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agład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Katy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wymordowan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410 jeńców z obozu kozielskiego, przy czym prawdopodobnie część skazanych zabito w Smoleńsku, w siedzibie obwodowego NKWD na ul. Dzierżyńskiego 13. Konwoje z obozu w grupach od 50 do 344 osób były organizowane od 3 kwietnia do 12 maj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331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81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TO 1942 ROK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iejsce masowych grobów w Katyniu zostało odkryte przez polskich robotników przymusowych z Bauzugu nr 2005 latem 1942 r. na podstawie informacji miejscowej ludności rosyjskiej. Dokonali oni poszukiwań, i po odkopaniu dwóch zwłok w polskim mundurze powiadomili władze niemieckie, które początkowo nie wykazały zainteresowania, ale powróciły do sprawy pod koniec zimy 1942/1943 r. Prace ekshumacyjne Niemcy rozpoczęli 18 lutego, i do 13 kwietnia wydobyli ponad 400 ciał. W dniu tym radio berlińskie podało komunikat o odnalezieniu w lesie katyńskim zwłok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2 000 polskich oficerów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79872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8102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ZAJEMNE OSZCZERSTW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odpowiedzi na komunikat radia berlińskiego radio moskiewskie (15 kwietnia 1943) i dziennik "Prawda" (17 kwietnia) podały stanowisko rządu radzieckiego obwiniające o zbrodnię Niemców, argumentowane rozwiniętym pomysłem Stalina z marca 1942 r. – polscy oficerowie z Kozielska, Ostaszkowa i Starobielska mieli być na wiosnę 1940 r. przemieszczeni bez prawa do korespondencji do trzech obozów pracy nr 1-ON, 2-ON, 3-ON (specjalnego przeznaczenia) w rejonie Smoleńska, a po przejęciu przez Niemców w 1941 r. zamordowani przez nich jesienią. Po zwróceniu się rządu polskiego do Międzynarodowego Czerwonego Krzyża "Prawda" opublikowała artykuł "Polscy współpracownicy Hitlera", a w nocy z 25 na 26 kwietnia polski ambasador Tadeusz Romer otrzymał notę o zerwaniu stosunków dyplomatycznych[11]. Brytyjskie Foreign Office powiadomiło w niejawnej depeszy amerykański Departament Stanu, że w jego przekonaniu: rząd sowiecki zerwał z Polakami, by ukryć własną winę. Jednocześnie winą za zerwanie stosunków Winston Churchill w depeszy do Stalina obarczył Polaków: wznowienie przyjacielskich czy roboczych stosunków z Rosją Sowiecką nie będzie możliwe, dopóki wysuwa on [rząd polski] obraźliwe oskarżenia wobec Rządu Sowieckieg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5877000"/>
            <a:ext cx="1873440" cy="98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5877000"/>
            <a:ext cx="2030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ty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174840" cy="2651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0:33Z</dcterms:created>
  <dc:creator>xxx</dc:creator>
  <dc:description/>
  <dc:language>en-US</dc:language>
  <cp:lastModifiedBy>xxx</cp:lastModifiedBy>
  <dcterms:modified xsi:type="dcterms:W3CDTF">2009-09-17T14:15:22Z</dcterms:modified>
  <cp:revision>9</cp:revision>
  <dc:subject/>
  <dc:title>Prezentacja multimedialna</dc:title>
</cp:coreProperties>
</file>